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HI_FIGHT%2050-50.WAV" ContentType="audio/x-wav"/>
  <Override PartName="/ppt/media/millionaire.wav" ContentType="audio/x-wav"/>
  <Override PartName="/ppt/media/image4.gif" ContentType="image/gif"/>
  <Override PartName="/ppt/media/ANGELS_F.WAV" ContentType="audio/x-wav"/>
  <Override PartName="/ppt/media/image8.gif" ContentType="image/gif"/>
  <Override PartName="/ppt/media/NEPR%20%D0%BF%D1%80%D0%BE%D0%B8%D0%B3%D1%80.WAV" ContentType="audio/x-wav"/>
  <Override PartName="/ppt/media/image5.gif" ContentType="image/gif"/>
  <Override PartName="/ppt/media/image6.gif" ContentType="image/gif"/>
  <Override PartName="/ppt/media/image7.gif" ContentType="image/gi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6CA2-7975-4BF8-81D4-BF8179268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1628-DD2C-4F4B-B3CB-BF809EB3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B1E6-1627-4C2B-9FF2-2402F5A88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4B23-2006-4240-9712-5F5A014C4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3B46-B6ED-4CC2-BD00-FE61C87D6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833B-9437-45A6-A9D2-57B2AF87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13B11-3E01-4A97-8D6F-51E9B825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AA76-E9FE-4073-A0AA-D9FD0706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4B2C-7563-492F-BE5C-9E1C5A5B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5003-207E-4F05-9C86-C729ED30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F864-E5A1-4A6D-93B2-2FE88AC3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3995-0CFA-495F-8416-874D2602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8E75-4347-41FA-B17A-A0F5F3BD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5BFE-7D68-490F-B027-621AD756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518E7-F521-4FF4-946D-A2844F5B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66B8-C6F9-4FD3-9E39-B60DAA880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B5F57-E0CE-4DE9-AF90-AB2AFBF43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6221-6547-425D-9362-41C8FEEF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2978-48D9-4B22-BD93-0A238A39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E77C-956D-412A-9D8B-0573BE63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97EE-0263-44DC-A33C-A1F7E7EF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632D-9CC1-40C4-9C0C-27D54048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6F9F-3D2F-43FB-9B3B-1626253D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BD2C-3332-49FE-B84F-ED11792E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800"/>
            </a:gs>
            <a:gs pos="100000">
              <a:srgbClr val="cc9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8763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7c5d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a076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d49c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a77d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946f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ce9c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6f53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d49c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8d68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8e6b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cf9f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5e47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694f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a77b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a2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8d68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946d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8261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7c5d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ad82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634a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ad82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a77b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7658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946f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a179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946f00"/>
                  </a:gs>
                  <a:gs pos="100000">
                    <a:srgbClr val="cc99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cc9900"/>
                  </a:gs>
                  <a:gs pos="100000">
                    <a:srgbClr val="d1a21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ebd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43AF-AB4E-47C3-8791-58272375F0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800"/>
            </a:gs>
            <a:gs pos="100000">
              <a:srgbClr val="cc9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8763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7c5d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a076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d49c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a77d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946f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ce9c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6f53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d49c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8d68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8e6b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cf9f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5e47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694f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a77b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a2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8d68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946d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8261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7c5d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ad82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634a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ad82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a77b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7658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946f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a179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946f00"/>
                  </a:gs>
                  <a:gs pos="100000">
                    <a:srgbClr val="cc99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cc9900"/>
                  </a:gs>
                  <a:gs pos="100000">
                    <a:srgbClr val="d1a21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ebd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1A5F-9DB2-463F-975F-232A9F96450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igra_schastlivcik.ppt" TargetMode="External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ANGELS_F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audio" Target="../media/NEPR%20&#1087;&#1088;&#1086;&#1080;&#1075;&#1088;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igra_schastlivcik.ppt" TargetMode="External"/><Relationship Id="rId2" Type="http://schemas.openxmlformats.org/officeDocument/2006/relationships/audio" Target="../media/ANGELS_F.WAV"/><Relationship Id="rId3" Type="http://schemas.openxmlformats.org/officeDocument/2006/relationships/audio" Target="../media/HI_FIGHT%2050-50.WAV"/><Relationship Id="rId4" Type="http://schemas.openxmlformats.org/officeDocument/2006/relationships/audio" Target="../media/HI_FIGHT%2050-50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audio" Target="../media/NEPR%20&#1087;&#1088;&#1086;&#1080;&#1075;&#1088;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NGELS_F.WAV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NEPR%20&#1087;&#1088;&#1086;&#1080;&#1075;&#1088;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ANGELS_F.WAV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NEPR%20&#1087;&#1088;&#1086;&#1080;&#1075;&#1088;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ANGELS_F.WAV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NEPR%20&#1087;&#1088;&#1086;&#1080;&#1075;&#1088;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igra_schastlivcik.ppt" TargetMode="External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ANGELS_F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audio" Target="../media/NEPR%20&#1087;&#1088;&#1086;&#1080;&#1075;&#1088;.WAV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ANGELS_F.WAV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NEPR%20&#1087;&#1088;&#1086;&#1080;&#1075;&#1088;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ANGELS_F.WAV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NEPR%20&#1087;&#1088;&#1086;&#1080;&#1075;&#1088;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ANGELS_F.WAV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NEPR%20&#1087;&#1088;&#1086;&#1080;&#1075;&#1088;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HI_FIGHT%2050-50.WAV"/><Relationship Id="rId2" Type="http://schemas.openxmlformats.org/officeDocument/2006/relationships/audio" Target="../media/HI_FIGHT%2050-50.WAV"/><Relationship Id="rId3" Type="http://schemas.openxmlformats.org/officeDocument/2006/relationships/audio" Target="../media/ANGELS_F.WAV"/><Relationship Id="rId4" Type="http://schemas.openxmlformats.org/officeDocument/2006/relationships/audio" Target="../media/NEPR%20&#1087;&#1088;&#1086;&#1080;&#1075;&#1088;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ANGELS_F.WAV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NEPR%20&#1087;&#1088;&#1086;&#1080;&#1075;&#1088;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HI_FIGHT%2050-50.WAV"/><Relationship Id="rId2" Type="http://schemas.openxmlformats.org/officeDocument/2006/relationships/audio" Target="../media/HI_FIGHT%2050-50.WAV"/><Relationship Id="rId3" Type="http://schemas.openxmlformats.org/officeDocument/2006/relationships/audio" Target="../media/ANGELS_F.WAV"/><Relationship Id="rId4" Type="http://schemas.openxmlformats.org/officeDocument/2006/relationships/audio" Target="../media/NEPR%20&#1087;&#1088;&#1086;&#1080;&#1075;&#1088;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5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igra_schastlivcik.ppt" TargetMode="External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ANGELS_F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audio" Target="../media/NEPR%20&#1087;&#1088;&#1086;&#1080;&#1075;&#1088;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igra_schastlivcik.ppt" TargetMode="External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ANGELS_F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audio" Target="../media/NEPR%20&#1087;&#1088;&#1086;&#1080;&#1075;&#1088;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igra_schastlivcik.ppt" TargetMode="External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ANGELS_F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audio" Target="../media/NEPR%20&#1087;&#1088;&#1086;&#1080;&#1075;&#1088;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2"/>
          <p:cNvSpPr txBox="1"/>
          <p:nvPr/>
        </p:nvSpPr>
        <p:spPr>
          <a:xfrm>
            <a:off x="990720" y="1066680"/>
            <a:ext cx="7543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Внеклассное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nstantia"/>
              <a:ea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мероприяти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nstantia"/>
              <a:ea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для старшеклассников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nstantia"/>
              <a:ea typeface="Constanti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AutoShape 26">
            <a:hlinkClick r:id="rId1"/>
          </p:cNvPr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1981080" y="3809880"/>
            <a:ext cx="4800600" cy="7621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18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1981080" y="5638680"/>
            <a:ext cx="4800600" cy="7621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AutoShape 8"/>
          <p:cNvSpPr/>
          <p:nvPr/>
        </p:nvSpPr>
        <p:spPr>
          <a:xfrm>
            <a:off x="1905120" y="4724280"/>
            <a:ext cx="4952880" cy="7621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50d1e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20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380880" y="685800"/>
            <a:ext cx="8305920" cy="19940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122a"/>
                </a:solidFill>
                <a:latin typeface="Times New Roman"/>
              </a:rPr>
              <a:t>5. </a:t>
            </a: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“Всё украшало кабинет философа в … лет”, Возраст Онегина в 1-й глав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AutoShape 10"/>
          <p:cNvSpPr/>
          <p:nvPr/>
        </p:nvSpPr>
        <p:spPr>
          <a:xfrm>
            <a:off x="1981080" y="2895480"/>
            <a:ext cx="4572000" cy="7621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AutoShape 14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15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0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398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40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406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09" dur="1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410" dur="1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411" dur="1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1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1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418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21" dur="1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422" dur="1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423" dur="1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9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430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33" dur="1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434" dur="1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435" dur="1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3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3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46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8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49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50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51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2286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cd00"/>
              </a:gs>
            </a:gsLst>
            <a:path path="rect">
              <a:fillToRect l="50000" t="50000" r="50000" b="50000"/>
            </a:path>
          </a:gradFill>
          <a:ln w="63360">
            <a:solidFill>
              <a:srgbClr val="110557"/>
            </a:solidFill>
            <a:miter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122a"/>
                </a:solidFill>
                <a:latin typeface="Times New Roman"/>
              </a:rPr>
              <a:t>6. 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Персонаж “Капитанской дочки”, подаривший Пугачёву заячий тулуп?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82" name="AutoShape 5"/>
          <p:cNvSpPr/>
          <p:nvPr/>
        </p:nvSpPr>
        <p:spPr>
          <a:xfrm>
            <a:off x="685800" y="5181480"/>
            <a:ext cx="33526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7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50d1e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Гринёв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AutoShape 6"/>
          <p:cNvSpPr/>
          <p:nvPr/>
        </p:nvSpPr>
        <p:spPr>
          <a:xfrm>
            <a:off x="5181480" y="5181480"/>
            <a:ext cx="342900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7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Швабр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AutoShape 7"/>
          <p:cNvSpPr/>
          <p:nvPr/>
        </p:nvSpPr>
        <p:spPr>
          <a:xfrm>
            <a:off x="685800" y="4114800"/>
            <a:ext cx="33526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7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Савельич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AutoShape 8"/>
          <p:cNvSpPr/>
          <p:nvPr/>
        </p:nvSpPr>
        <p:spPr>
          <a:xfrm>
            <a:off x="5105520" y="4191120"/>
            <a:ext cx="33526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7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Миронов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13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20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25">
            <a:hlinkClick r:id="rId1"/>
          </p:cNvPr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7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8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9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480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48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8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7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488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4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495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98" dur="1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499" dur="1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500" dur="1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6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507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10" dur="1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511" dur="1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512" dur="1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1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1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8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519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22" dur="1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523" dur="1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524" dur="1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2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2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5" dur="250" autoRev="1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536" dur="250" autoRev="1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537" dur="250" autoRev="1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4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4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4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36576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122a"/>
                </a:solidFill>
                <a:latin typeface="Baskerville Old Face"/>
              </a:rPr>
              <a:t>7.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Кто из героинь романа “Евгений Онегин”</a:t>
            </a:r>
            <a:br>
              <a:rPr sz="2800"/>
            </a:b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Всегда скромна, всегда послушна,</a:t>
            </a:r>
            <a:br>
              <a:rPr sz="2800"/>
            </a:b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Всегда, как утро, весела,</a:t>
            </a:r>
            <a:br>
              <a:rPr sz="2800"/>
            </a:b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Как жизнь поэта простодушна,</a:t>
            </a:r>
            <a:br>
              <a:rPr sz="2800"/>
            </a:b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Как поцелуй любви мила;</a:t>
            </a:r>
            <a:br>
              <a:rPr sz="2800"/>
            </a:b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Глаза как небо голубые,</a:t>
            </a:r>
            <a:br>
              <a:rPr sz="2800"/>
            </a:b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Улыбка, локоны льняные…</a:t>
            </a:r>
            <a:br>
              <a:rPr sz="2800"/>
            </a:br>
            <a:endParaRPr b="0" lang="en-US" sz="28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305" name="AutoShape 5"/>
          <p:cNvSpPr/>
          <p:nvPr/>
        </p:nvSpPr>
        <p:spPr>
          <a:xfrm>
            <a:off x="380880" y="5257800"/>
            <a:ext cx="3733920" cy="12193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Няня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Татья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AutoShape 6"/>
          <p:cNvSpPr/>
          <p:nvPr/>
        </p:nvSpPr>
        <p:spPr>
          <a:xfrm>
            <a:off x="4419720" y="5257800"/>
            <a:ext cx="4343400" cy="12193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Помощниц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Ларина в девичестве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AutoShape 7"/>
          <p:cNvSpPr/>
          <p:nvPr/>
        </p:nvSpPr>
        <p:spPr>
          <a:xfrm>
            <a:off x="380880" y="4267080"/>
            <a:ext cx="373392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 Татьяна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utoShape 8"/>
          <p:cNvSpPr/>
          <p:nvPr/>
        </p:nvSpPr>
        <p:spPr>
          <a:xfrm>
            <a:off x="4343400" y="4191120"/>
            <a:ext cx="441972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 Ольга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AutoShape 1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AutoShape 1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AutoShape 23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4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565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56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7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7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2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573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9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580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83" dur="1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584" dur="1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585" dur="1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1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592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95" dur="1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596" dur="1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597" dur="1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9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0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3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604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07" dur="1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608" dur="1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609" dur="1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1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1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0" dur="250" autoRev="1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621" dur="250" autoRev="1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622" dur="250" autoRev="1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500"/>
                            </p:stCondLst>
                            <p:childTnLst>
                              <p:par>
                                <p:cTn id="624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2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2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AutoShape 5"/>
          <p:cNvSpPr/>
          <p:nvPr/>
        </p:nvSpPr>
        <p:spPr>
          <a:xfrm>
            <a:off x="228600" y="5181480"/>
            <a:ext cx="40384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Тропинин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AutoShape 6"/>
          <p:cNvSpPr/>
          <p:nvPr/>
        </p:nvSpPr>
        <p:spPr>
          <a:xfrm>
            <a:off x="4648320" y="5181480"/>
            <a:ext cx="40384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Н.Н. Ге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AutoShape 7"/>
          <p:cNvSpPr/>
          <p:nvPr/>
        </p:nvSpPr>
        <p:spPr>
          <a:xfrm>
            <a:off x="228600" y="411480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Кипренский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AutoShape 8"/>
          <p:cNvSpPr/>
          <p:nvPr/>
        </p:nvSpPr>
        <p:spPr>
          <a:xfrm>
            <a:off x="4648320" y="411480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Репин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9"/>
          <p:cNvSpPr/>
          <p:nvPr/>
        </p:nvSpPr>
        <p:spPr>
          <a:xfrm>
            <a:off x="380880" y="990720"/>
            <a:ext cx="8305920" cy="19936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2122a"/>
                </a:solidFill>
                <a:latin typeface="Arial"/>
              </a:rPr>
              <a:t>8. 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Автор картины “Пущин у Пушкина в Михайловском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AutoShape 17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AutoShape 19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AutoShape 29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2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653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65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5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5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5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0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661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7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668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71" dur="1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672" dur="1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673" dur="1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7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9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680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83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684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685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1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692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95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696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697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9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0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0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0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8" dur="250" autoRev="1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709" dur="250" autoRev="1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710" dur="250" autoRev="1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1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1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1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71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153640" cy="22222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cd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122a"/>
                </a:solidFill>
                <a:latin typeface="Times New Roman"/>
              </a:rPr>
              <a:t>9. 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От какого стихотворного размера не мог отличить Онегин ямба?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351" name="AutoShape 5"/>
          <p:cNvSpPr/>
          <p:nvPr/>
        </p:nvSpPr>
        <p:spPr>
          <a:xfrm>
            <a:off x="228600" y="5181480"/>
            <a:ext cx="40384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d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 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От хоре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AutoShape 6"/>
          <p:cNvSpPr/>
          <p:nvPr/>
        </p:nvSpPr>
        <p:spPr>
          <a:xfrm>
            <a:off x="4419720" y="5181480"/>
            <a:ext cx="44956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d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От амфибрах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AutoShape 7"/>
          <p:cNvSpPr/>
          <p:nvPr/>
        </p:nvSpPr>
        <p:spPr>
          <a:xfrm>
            <a:off x="228600" y="411480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d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От анапес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AutoShape 8"/>
          <p:cNvSpPr/>
          <p:nvPr/>
        </p:nvSpPr>
        <p:spPr>
          <a:xfrm>
            <a:off x="4419720" y="4114800"/>
            <a:ext cx="441936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d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50d1e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От дактиля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AutoShape 25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AutoShape 26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AutoShape 37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3650"/>
                            </p:stCondLst>
                            <p:childTnLst>
                              <p:par>
                                <p:cTn id="7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0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741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74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4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4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74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8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749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5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756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59" dur="1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760" dur="1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761" dur="1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6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6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7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768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71" dur="1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772" dur="1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773" dur="1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7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9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780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83" dur="1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784" dur="1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785" dur="1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0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6" dur="250" autoRev="1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797" dur="250" autoRev="1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798" dur="250" autoRev="1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500"/>
                            </p:stCondLst>
                            <p:childTnLst>
                              <p:par>
                                <p:cTn id="800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0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0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0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0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4"/>
          <p:cNvSpPr/>
          <p:nvPr/>
        </p:nvSpPr>
        <p:spPr>
          <a:xfrm>
            <a:off x="304920" y="3200400"/>
            <a:ext cx="3809880" cy="9907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aa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  <a:ea typeface="Times New Roman"/>
              </a:rPr>
              <a:t>  Ираида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304920" y="4800600"/>
            <a:ext cx="3886200" cy="91440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aa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  <a:ea typeface="Times New Roman"/>
              </a:rPr>
              <a:t> Арина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2"/>
          <p:cNvSpPr/>
          <p:nvPr/>
        </p:nvSpPr>
        <p:spPr>
          <a:xfrm>
            <a:off x="4419720" y="4800600"/>
            <a:ext cx="4343400" cy="91440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aa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  <a:ea typeface="Times New Roman"/>
              </a:rPr>
              <a:t> Анастасия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5"/>
          <p:cNvSpPr/>
          <p:nvPr/>
        </p:nvSpPr>
        <p:spPr>
          <a:xfrm>
            <a:off x="4343400" y="3200400"/>
            <a:ext cx="4343400" cy="9907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aa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  <a:ea typeface="Times New Roman"/>
              </a:rPr>
              <a:t>  Ирина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380880" y="614880"/>
            <a:ext cx="8458200" cy="131292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54d35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8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  <a:ea typeface="Times New Roman"/>
              </a:rPr>
              <a:t>Как звали няню Пушкин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18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19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32">
            <a:hlinkClick r:id="rId1"/>
          </p:cNvPr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9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975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1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52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53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3" dur="1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64" dur="1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65" dur="1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5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76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77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160" y="838080"/>
            <a:ext cx="8305560" cy="23623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c7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122a"/>
                </a:solidFill>
                <a:latin typeface="Baskerville Old Face"/>
              </a:rPr>
              <a:t>10. 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Чем меньше женщину мы любим,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Тем … нравимся мы ей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375" name="AutoShape 5"/>
          <p:cNvSpPr/>
          <p:nvPr/>
        </p:nvSpPr>
        <p:spPr>
          <a:xfrm>
            <a:off x="228600" y="5181480"/>
            <a:ext cx="40384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7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Лучше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AutoShape 6"/>
          <p:cNvSpPr/>
          <p:nvPr/>
        </p:nvSpPr>
        <p:spPr>
          <a:xfrm>
            <a:off x="4724280" y="5181480"/>
            <a:ext cx="403884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7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Меньше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AutoShape 7"/>
          <p:cNvSpPr/>
          <p:nvPr/>
        </p:nvSpPr>
        <p:spPr>
          <a:xfrm>
            <a:off x="304920" y="411480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7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Больше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AutoShape 8"/>
          <p:cNvSpPr/>
          <p:nvPr/>
        </p:nvSpPr>
        <p:spPr>
          <a:xfrm>
            <a:off x="4724280" y="4114800"/>
            <a:ext cx="403884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7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50d1e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Легче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1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1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AutoShape 23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0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5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826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82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3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3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3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3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834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0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841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44" dur="1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845" dur="1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846" dur="1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2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853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56" dur="1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857" dur="1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858" dur="1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4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865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68" dur="1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869" dur="1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870" dur="1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0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881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8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8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8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8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33526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122a"/>
                </a:solidFill>
                <a:latin typeface="Times New Roman"/>
              </a:rPr>
              <a:t>11.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 романе “Евгений Онегин” читаем:</a:t>
            </a:r>
            <a:br>
              <a:rPr sz="3200"/>
            </a:br>
            <a:r>
              <a:rPr b="0" i="1" lang="ru-RU" sz="3200" spc="-1" strike="noStrike">
                <a:solidFill>
                  <a:srgbClr val="c00000"/>
                </a:solidFill>
                <a:latin typeface="Arial"/>
              </a:rPr>
              <a:t>Надев широкий боливар,</a:t>
            </a:r>
            <a:br>
              <a:rPr sz="3200"/>
            </a:br>
            <a:r>
              <a:rPr b="0" i="1" lang="ru-RU" sz="3200" spc="-1" strike="noStrike">
                <a:solidFill>
                  <a:srgbClr val="c00000"/>
                </a:solidFill>
                <a:latin typeface="Arial"/>
              </a:rPr>
              <a:t>Онегин едет на бульвар.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Какая часть одежды называлась “боливаром”?</a:t>
            </a:r>
            <a:endParaRPr b="0" lang="en-US" sz="32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398" name="AutoShape 5"/>
          <p:cNvSpPr/>
          <p:nvPr/>
        </p:nvSpPr>
        <p:spPr>
          <a:xfrm>
            <a:off x="228600" y="502920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Шарф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6"/>
          <p:cNvSpPr/>
          <p:nvPr/>
        </p:nvSpPr>
        <p:spPr>
          <a:xfrm>
            <a:off x="4572000" y="502920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 Шляпа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AutoShape 7"/>
          <p:cNvSpPr/>
          <p:nvPr/>
        </p:nvSpPr>
        <p:spPr>
          <a:xfrm>
            <a:off x="228600" y="396252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Пиджак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AutoShape 8"/>
          <p:cNvSpPr/>
          <p:nvPr/>
        </p:nvSpPr>
        <p:spPr>
          <a:xfrm>
            <a:off x="4648320" y="396252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50d1e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Пальто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AutoShape 1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AutoShape 1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AutoShape 24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0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500"/>
                            </p:stCondLst>
                            <p:childTnLst>
                              <p:par>
                                <p:cTn id="8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500"/>
                            </p:stCondLst>
                            <p:childTnLst>
                              <p:par>
                                <p:cTn id="9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500"/>
                            </p:stCondLst>
                            <p:childTnLst>
                              <p:par>
                                <p:cTn id="9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2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500"/>
                            </p:stCondLst>
                            <p:childTnLst>
                              <p:par>
                                <p:cTn id="9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5" restart="whenNotActive" nodeType="interactiveSeq" fill="hold">
                <p:stCondLst>
                  <p:cond evt="onClick">
                    <p:tgtEl>
                      <p:spTgt spid="399"/>
                    </p:tgtEl>
                  </p:cond>
                </p:stCondLst>
                <p:childTnLst>
                  <p:par>
                    <p:cTn id="926" fill="hold">
                      <p:stCondLst>
                        <p:cond evt="onClick">
                          <p:tgtEl>
                            <p:spTgt spid="399"/>
                          </p:tgtEl>
                        </p:cond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92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3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3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3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3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934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0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941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44" dur="1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945" dur="1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946" dur="1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2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953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56" dur="1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957" dur="1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958" dur="1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4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965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68" dur="1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969" dur="1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970" dur="1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0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1" dur="250" autoRev="1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982" dur="250" autoRev="1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983" dur="250" autoRev="1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8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8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8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8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31244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bc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a2122a"/>
            </a:solidFill>
            <a:miter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a2122a"/>
                </a:solidFill>
                <a:latin typeface="Arial"/>
              </a:rPr>
              <a:t>12. 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Из-за чего Пушкин пробыл в Болдине с начала сентября до конца ноября 1830 г.?</a:t>
            </a:r>
            <a:br>
              <a:rPr sz="4400"/>
            </a:b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21" name="AutoShape 5"/>
          <p:cNvSpPr/>
          <p:nvPr/>
        </p:nvSpPr>
        <p:spPr>
          <a:xfrm>
            <a:off x="304920" y="5105520"/>
            <a:ext cx="396216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c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a212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Из-за холеры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AutoShape 6"/>
          <p:cNvSpPr/>
          <p:nvPr/>
        </p:nvSpPr>
        <p:spPr>
          <a:xfrm>
            <a:off x="4572000" y="5105520"/>
            <a:ext cx="411480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c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a212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Из-за чумы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AutoShape 7"/>
          <p:cNvSpPr/>
          <p:nvPr/>
        </p:nvSpPr>
        <p:spPr>
          <a:xfrm>
            <a:off x="304920" y="4038480"/>
            <a:ext cx="396216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c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a212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Из-за гриппа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AutoShape 8"/>
          <p:cNvSpPr/>
          <p:nvPr/>
        </p:nvSpPr>
        <p:spPr>
          <a:xfrm>
            <a:off x="4648320" y="4038480"/>
            <a:ext cx="40384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c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a212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Из-за ангины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AutoShape 1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AutoShape 1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AutoShape 22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0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500"/>
                            </p:stCondLst>
                            <p:childTnLst>
                              <p:par>
                                <p:cTn id="9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3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1014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01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1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1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02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1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1022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8" restart="whenNotActive" nodeType="interactiveSeq" fill="hold">
                <p:stCondLst>
                  <p:cond evt="onClick">
                    <p:tgtEl>
                      <p:spTgt spid="422"/>
                    </p:tgtEl>
                  </p:cond>
                </p:stCondLst>
                <p:childTnLst>
                  <p:par>
                    <p:cTn id="1029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32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033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034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3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0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1041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44" dur="1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045" dur="1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046" dur="1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2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1053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56" dur="1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057" dur="1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058" dur="1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0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9" dur="250" autoRev="1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070" dur="250" autoRev="1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071" dur="250" autoRev="1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500"/>
                            </p:stCondLst>
                            <p:childTnLst>
                              <p:par>
                                <p:cTn id="1073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7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7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7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07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26672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122a"/>
                </a:solidFill>
                <a:latin typeface="Baskerville Old Face"/>
              </a:rPr>
              <a:t>13. </a:t>
            </a: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Назовите стихотворение, в котором Бог повелевает своему посланнику “глаголом жечь сердца людей”</a:t>
            </a:r>
            <a:endParaRPr b="0" lang="en-US" sz="40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44" name="AutoShape 5"/>
          <p:cNvSpPr/>
          <p:nvPr/>
        </p:nvSpPr>
        <p:spPr>
          <a:xfrm>
            <a:off x="228600" y="510552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«Памятник»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AutoShape 6"/>
          <p:cNvSpPr/>
          <p:nvPr/>
        </p:nvSpPr>
        <p:spPr>
          <a:xfrm>
            <a:off x="4572000" y="510552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«Анчар»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AutoShape 7"/>
          <p:cNvSpPr/>
          <p:nvPr/>
        </p:nvSpPr>
        <p:spPr>
          <a:xfrm>
            <a:off x="228600" y="4038480"/>
            <a:ext cx="40384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«Узник»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AutoShape 8"/>
          <p:cNvSpPr/>
          <p:nvPr/>
        </p:nvSpPr>
        <p:spPr>
          <a:xfrm>
            <a:off x="4648320" y="4038480"/>
            <a:ext cx="40384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«Пророк»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AutoShape 1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AutoShape 1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AutoShape 22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fill="hold">
                      <p:stCondLst>
                        <p:cond delay="0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7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8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9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2" dur="8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3" dur="8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4" dur="8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7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8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9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2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3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4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5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1106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2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1113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11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1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1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11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0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1121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24" dur="1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125" dur="1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126" dur="1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2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2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3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2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1133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36" dur="1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137" dur="1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138" dur="1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3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4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4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1145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48" dur="1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149" dur="1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150" dur="1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1156" dur="indefinite" restart="never" nodeType="tmRoot">
          <p:childTnLst>
            <p:seq>
              <p:cTn id="1157" dur="indefinite" nodeType="mainSeq">
                <p:childTnLst>
                  <p:par>
                    <p:cTn id="1158" fill="hold">
                      <p:stCondLst>
                        <p:cond delay="0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1" dur="250" autoRev="1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162" dur="250" autoRev="1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163" dur="250" autoRev="1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165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6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6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6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16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1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172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33526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d3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122a"/>
                </a:solidFill>
                <a:latin typeface="Times New Roman"/>
              </a:rPr>
              <a:t>14. </a:t>
            </a: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“Но, дверь тихонько отпирая,</a:t>
            </a: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Уж ей … седая</a:t>
            </a: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Приносит на подносе чай.”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Назовите отчество няни Татьяны.</a:t>
            </a:r>
            <a:br>
              <a:rPr sz="4000"/>
            </a:br>
            <a:endParaRPr b="0" lang="en-US" sz="36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67" name="AutoShape 5"/>
          <p:cNvSpPr/>
          <p:nvPr/>
        </p:nvSpPr>
        <p:spPr>
          <a:xfrm>
            <a:off x="228600" y="510552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3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Филипьевна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utoShape 6"/>
          <p:cNvSpPr/>
          <p:nvPr/>
        </p:nvSpPr>
        <p:spPr>
          <a:xfrm>
            <a:off x="4572000" y="510552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3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Прокофьевна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AutoShape 7"/>
          <p:cNvSpPr/>
          <p:nvPr/>
        </p:nvSpPr>
        <p:spPr>
          <a:xfrm>
            <a:off x="228600" y="4038480"/>
            <a:ext cx="40384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3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Аркадьевна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AutoShape 8"/>
          <p:cNvSpPr/>
          <p:nvPr/>
        </p:nvSpPr>
        <p:spPr>
          <a:xfrm>
            <a:off x="4648320" y="4038480"/>
            <a:ext cx="40384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3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Михайловна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AutoShape 1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AutoShape 1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AutoShape 22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0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1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4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5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6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1020"/>
                            </p:stCondLst>
                            <p:childTnLst>
                              <p:par>
                                <p:cTn id="11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0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1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2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1540"/>
                            </p:stCondLst>
                            <p:childTnLst>
                              <p:par>
                                <p:cTn id="11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6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7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8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2060"/>
                            </p:stCondLst>
                            <p:childTnLst>
                              <p:par>
                                <p:cTn id="12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2" dur="8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3" dur="8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4" dur="8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5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1206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20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1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1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21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3" restart="whenNotActive" nodeType="interactiveSeq" fill="hold">
                <p:stCondLst>
                  <p:cond evt="onClick">
                    <p:tgtEl>
                      <p:spTgt spid="472"/>
                    </p:tgtEl>
                  </p:cond>
                </p:stCondLst>
                <p:childTnLst>
                  <p:par>
                    <p:cTn id="1214" fill="hold">
                      <p:stCondLst>
                        <p:cond evt="onClick">
                          <p:tgtEl>
                            <p:spTgt spid="472"/>
                          </p:tgtEl>
                        </p:cond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0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1221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24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225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226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2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2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3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2" restart="whenNotActive" nodeType="interactiveSeq" fill="hold">
                <p:stCondLst>
                  <p:cond evt="onClick">
                    <p:tgtEl>
                      <p:spTgt spid="469"/>
                    </p:tgtEl>
                  </p:cond>
                </p:stCondLst>
                <p:childTnLst>
                  <p:par>
                    <p:cTn id="1233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36" dur="1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237" dur="1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238" dur="1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3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4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4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4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4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1245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48" dur="1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249" dur="1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250" dur="1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fill="hold">
                      <p:stCondLst>
                        <p:cond delay="0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1" dur="250" autoRev="1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262" dur="250" autoRev="1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263" dur="250" autoRev="1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500"/>
                            </p:stCondLst>
                            <p:childTnLst>
                              <p:par>
                                <p:cTn id="1265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6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6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6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26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44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45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46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47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48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49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50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51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52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53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54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55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56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57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58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push dir="l"/>
    <p:sndAc>
      <p:stSnd>
        <p:snd r:embed="rId1" name="millionaire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250" autoRev="1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89" dur="250" autoRev="1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90" dur="250" autoRev="1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AutoShape 31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27"/>
          <p:cNvSpPr/>
          <p:nvPr/>
        </p:nvSpPr>
        <p:spPr>
          <a:xfrm>
            <a:off x="228600" y="457200"/>
            <a:ext cx="8534520" cy="2070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d3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122a"/>
                </a:solidFill>
                <a:latin typeface="Baskerville Old Face"/>
              </a:rPr>
              <a:t>15. </a:t>
            </a: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Автор книги “Мой Пушкин”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AutoShape 5"/>
          <p:cNvSpPr/>
          <p:nvPr/>
        </p:nvSpPr>
        <p:spPr>
          <a:xfrm>
            <a:off x="2057400" y="3652920"/>
            <a:ext cx="411480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3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Мережковский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AutoShape 6"/>
          <p:cNvSpPr/>
          <p:nvPr/>
        </p:nvSpPr>
        <p:spPr>
          <a:xfrm>
            <a:off x="2057400" y="5634000"/>
            <a:ext cx="4191120" cy="7621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3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    Ахматова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AutoShape 7"/>
          <p:cNvSpPr/>
          <p:nvPr/>
        </p:nvSpPr>
        <p:spPr>
          <a:xfrm>
            <a:off x="2057400" y="2738520"/>
            <a:ext cx="3962520" cy="76176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3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Брю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AutoShape 8"/>
          <p:cNvSpPr/>
          <p:nvPr/>
        </p:nvSpPr>
        <p:spPr>
          <a:xfrm>
            <a:off x="2057400" y="4724280"/>
            <a:ext cx="4191120" cy="7621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3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Цветаева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AutoShape 1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AutoShape 1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fill="hold">
                      <p:stCondLst>
                        <p:cond delay="0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500"/>
                            </p:stCondLst>
                            <p:childTnLst>
                              <p:par>
                                <p:cTn id="1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1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4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7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1" restart="whenNotActive" nodeType="interactiveSeq" fill="hold">
                <p:stCondLst>
                  <p:cond evt="onClick">
                    <p:tgtEl>
                      <p:spTgt spid="496"/>
                    </p:tgtEl>
                  </p:cond>
                </p:stCondLst>
                <p:childTnLst>
                  <p:par>
                    <p:cTn id="1292" fill="hold">
                      <p:stCondLst>
                        <p:cond evt="onClick">
                          <p:tgtEl>
                            <p:spTgt spid="496"/>
                          </p:tgtEl>
                        </p:cond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8" restart="whenNotActive" nodeType="interactiveSeq" fill="hold">
                <p:stCondLst>
                  <p:cond evt="onClick">
                    <p:tgtEl>
                      <p:spTgt spid="494"/>
                    </p:tgtEl>
                  </p:cond>
                </p:stCondLst>
                <p:childTnLst>
                  <p:par>
                    <p:cTn id="1299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30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0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0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30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6" restart="whenNotActive" nodeType="interactiveSeq" fill="hold">
                <p:stCondLst>
                  <p:cond evt="onClick">
                    <p:tgtEl>
                      <p:spTgt spid="493"/>
                    </p:tgtEl>
                  </p:cond>
                </p:stCondLst>
                <p:childTnLst>
                  <p:par>
                    <p:cTn id="1307" fill="hold">
                      <p:stCondLst>
                        <p:cond evt="onClick">
                          <p:tgtEl>
                            <p:spTgt spid="493"/>
                          </p:tgtEl>
                        </p:cond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10" dur="1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311" dur="1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312" dur="1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1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1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1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1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8" restart="whenNotActive" nodeType="interactiveSeq" fill="hold">
                <p:stCondLst>
                  <p:cond evt="onClick">
                    <p:tgtEl>
                      <p:spTgt spid="491"/>
                    </p:tgtEl>
                  </p:cond>
                </p:stCondLst>
                <p:childTnLst>
                  <p:par>
                    <p:cTn id="1319" fill="hold">
                      <p:stCondLst>
                        <p:cond evt="onClick">
                          <p:tgtEl>
                            <p:spTgt spid="491"/>
                          </p:tgtEl>
                        </p:cond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22" dur="1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323" dur="1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324" dur="1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2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2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2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2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0" restart="whenNotActive" nodeType="interactiveSeq" fill="hold">
                <p:stCondLst>
                  <p:cond evt="onClick">
                    <p:tgtEl>
                      <p:spTgt spid="492"/>
                    </p:tgtEl>
                  </p:cond>
                </p:stCondLst>
                <p:childTnLst>
                  <p:par>
                    <p:cTn id="1331" fill="hold">
                      <p:stCondLst>
                        <p:cond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34" dur="1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335" dur="1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336" dur="1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3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3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f2107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1342" dur="indefinite" restart="never" nodeType="tmRoot">
          <p:childTnLst>
            <p:seq>
              <p:cTn id="1343" dur="indefinite" nodeType="mainSeq">
                <p:childTnLst>
                  <p:par>
                    <p:cTn id="1344" fill="hold">
                      <p:stCondLst>
                        <p:cond delay="0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4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4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4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35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500"/>
                            </p:stCondLst>
                            <p:childTnLst>
                              <p:par>
                                <p:cTn id="1352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4">
                                      <p:cBhvr additive="repl">
                                        <p:cTn id="1353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259092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ebd40"/>
                </a:solidFill>
                <a:latin typeface="comic"/>
              </a:rPr>
              <a:t>Поздравляю,  вы </a:t>
            </a:r>
            <a:br>
              <a:rPr sz="5400"/>
            </a:br>
            <a:r>
              <a:rPr b="0" lang="ru-RU" sz="5400" spc="-1" strike="noStrike">
                <a:solidFill>
                  <a:srgbClr val="cebd40"/>
                </a:solidFill>
                <a:latin typeface="comic"/>
              </a:rPr>
              <a:t> </a:t>
            </a:r>
            <a:r>
              <a:rPr b="0" lang="ru-RU" sz="8800" spc="-1" strike="noStrike">
                <a:solidFill>
                  <a:srgbClr val="f1f622"/>
                </a:solidFill>
                <a:latin typeface="Monotype Corsiva"/>
              </a:rPr>
              <a:t>М</a:t>
            </a:r>
            <a:r>
              <a:rPr b="0" lang="ru-RU" sz="8800" spc="-1" strike="noStrike">
                <a:solidFill>
                  <a:srgbClr val="00ffff"/>
                </a:solidFill>
                <a:latin typeface="Monotype Corsiva"/>
              </a:rPr>
              <a:t>и</a:t>
            </a:r>
            <a:r>
              <a:rPr b="0" lang="ru-RU" sz="8800" spc="-1" strike="noStrike">
                <a:solidFill>
                  <a:srgbClr val="f6e2f2"/>
                </a:solidFill>
                <a:latin typeface="Monotype Corsiva"/>
              </a:rPr>
              <a:t>лл</a:t>
            </a:r>
            <a:r>
              <a:rPr b="0" lang="ru-RU" sz="8800" spc="-1" strike="noStrike">
                <a:solidFill>
                  <a:srgbClr val="2f9540"/>
                </a:solidFill>
                <a:latin typeface="Monotype Corsiva"/>
              </a:rPr>
              <a:t>и</a:t>
            </a:r>
            <a:r>
              <a:rPr b="0" lang="ru-RU" sz="8800" spc="-1" strike="noStrike">
                <a:solidFill>
                  <a:srgbClr val="f1f622"/>
                </a:solidFill>
                <a:latin typeface="Monotype Corsiva"/>
              </a:rPr>
              <a:t>о</a:t>
            </a:r>
            <a:r>
              <a:rPr b="0" lang="ru-RU" sz="8800" spc="-1" strike="noStrike">
                <a:solidFill>
                  <a:srgbClr val="0000ff"/>
                </a:solidFill>
                <a:latin typeface="Monotype Corsiva"/>
              </a:rPr>
              <a:t>н</a:t>
            </a:r>
            <a:r>
              <a:rPr b="0" lang="ru-RU" sz="8800" spc="-1" strike="noStrike">
                <a:solidFill>
                  <a:srgbClr val="00ffff"/>
                </a:solidFill>
                <a:latin typeface="Monotype Corsiva"/>
              </a:rPr>
              <a:t>ер</a:t>
            </a:r>
            <a:r>
              <a:rPr b="0" lang="ru-RU" sz="8800" spc="-1" strike="noStrike">
                <a:solidFill>
                  <a:srgbClr val="ffff99"/>
                </a:solidFill>
                <a:latin typeface="Monotype Corsiva"/>
              </a:rPr>
              <a:t>!</a:t>
            </a:r>
            <a:endParaRPr b="0" lang="en-US" sz="88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513" name="AutoShape 3"/>
          <p:cNvSpPr/>
          <p:nvPr/>
        </p:nvSpPr>
        <p:spPr>
          <a:xfrm>
            <a:off x="8381880" y="6400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7997" y="3837"/>
                </a:moveTo>
                <a:lnTo>
                  <a:pt x="20573" y="6448"/>
                </a:lnTo>
                <a:lnTo>
                  <a:pt x="20573" y="4707"/>
                </a:lnTo>
                <a:lnTo>
                  <a:pt x="22349" y="4707"/>
                </a:lnTo>
                <a:lnTo>
                  <a:pt x="22349" y="8224"/>
                </a:lnTo>
                <a:lnTo>
                  <a:pt x="24960" y="10800"/>
                </a:lnTo>
                <a:lnTo>
                  <a:pt x="23306" y="10800"/>
                </a:lnTo>
                <a:lnTo>
                  <a:pt x="23306" y="17989"/>
                </a:lnTo>
                <a:lnTo>
                  <a:pt x="12688" y="17989"/>
                </a:lnTo>
                <a:lnTo>
                  <a:pt x="12688" y="10800"/>
                </a:lnTo>
                <a:lnTo>
                  <a:pt x="11034" y="10800"/>
                </a:lnTo>
                <a:close/>
              </a:path>
              <a:path fill="darkenLess" w="35994" h="21600">
                <a:moveTo>
                  <a:pt x="20573" y="6448"/>
                </a:moveTo>
                <a:lnTo>
                  <a:pt x="20573" y="4707"/>
                </a:lnTo>
                <a:lnTo>
                  <a:pt x="22349" y="4707"/>
                </a:lnTo>
                <a:lnTo>
                  <a:pt x="22349" y="8224"/>
                </a:lnTo>
                <a:close/>
              </a:path>
              <a:path fill="darkenLess" w="35994" h="21600">
                <a:moveTo>
                  <a:pt x="17075" y="14299"/>
                </a:moveTo>
                <a:lnTo>
                  <a:pt x="18920" y="14299"/>
                </a:lnTo>
                <a:lnTo>
                  <a:pt x="18920" y="17989"/>
                </a:lnTo>
                <a:lnTo>
                  <a:pt x="23306" y="17989"/>
                </a:lnTo>
                <a:lnTo>
                  <a:pt x="23306" y="10800"/>
                </a:lnTo>
                <a:lnTo>
                  <a:pt x="12688" y="10800"/>
                </a:lnTo>
                <a:lnTo>
                  <a:pt x="12688" y="17989"/>
                </a:lnTo>
                <a:lnTo>
                  <a:pt x="17075" y="17989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Picture 4" descr="12284"/>
          <p:cNvPicPr/>
          <p:nvPr/>
        </p:nvPicPr>
        <p:blipFill>
          <a:blip r:embed="rId1"/>
          <a:stretch/>
        </p:blipFill>
        <p:spPr>
          <a:xfrm flipH="1">
            <a:off x="7086240" y="380880"/>
            <a:ext cx="1346040" cy="152424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5" descr="12284"/>
          <p:cNvPicPr/>
          <p:nvPr/>
        </p:nvPicPr>
        <p:blipFill>
          <a:blip r:embed="rId2"/>
          <a:stretch/>
        </p:blipFill>
        <p:spPr>
          <a:xfrm>
            <a:off x="609480" y="380880"/>
            <a:ext cx="1397160" cy="15242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6" descr="3690"/>
          <p:cNvPicPr/>
          <p:nvPr/>
        </p:nvPicPr>
        <p:blipFill>
          <a:blip r:embed="rId3"/>
          <a:stretch/>
        </p:blipFill>
        <p:spPr>
          <a:xfrm>
            <a:off x="6934320" y="5105520"/>
            <a:ext cx="1904760" cy="15523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7" descr="3725"/>
          <p:cNvPicPr/>
          <p:nvPr/>
        </p:nvPicPr>
        <p:blipFill>
          <a:blip r:embed="rId4"/>
          <a:stretch/>
        </p:blipFill>
        <p:spPr>
          <a:xfrm>
            <a:off x="2514600" y="152280"/>
            <a:ext cx="4286160" cy="190512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8" descr="3690"/>
          <p:cNvPicPr/>
          <p:nvPr/>
        </p:nvPicPr>
        <p:blipFill>
          <a:blip r:embed="rId5"/>
          <a:stretch/>
        </p:blipFill>
        <p:spPr>
          <a:xfrm flipH="1">
            <a:off x="456840" y="5105520"/>
            <a:ext cx="1600200" cy="15523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9" descr="3719"/>
          <p:cNvPicPr/>
          <p:nvPr/>
        </p:nvPicPr>
        <p:blipFill>
          <a:blip r:embed="rId6"/>
          <a:stretch/>
        </p:blipFill>
        <p:spPr>
          <a:xfrm>
            <a:off x="2743200" y="5353200"/>
            <a:ext cx="3467160" cy="12762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0" descr="327"/>
          <p:cNvPicPr/>
          <p:nvPr/>
        </p:nvPicPr>
        <p:blipFill>
          <a:blip r:embed="rId7"/>
          <a:stretch/>
        </p:blipFill>
        <p:spPr>
          <a:xfrm>
            <a:off x="500040" y="4768920"/>
            <a:ext cx="8077320" cy="1839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1" descr="327"/>
          <p:cNvPicPr/>
          <p:nvPr/>
        </p:nvPicPr>
        <p:blipFill>
          <a:blip r:embed="rId8"/>
          <a:stretch/>
        </p:blipFill>
        <p:spPr>
          <a:xfrm>
            <a:off x="533520" y="2209680"/>
            <a:ext cx="8076960" cy="18432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2" descr="400"/>
          <p:cNvPicPr/>
          <p:nvPr/>
        </p:nvPicPr>
        <p:blipFill>
          <a:blip r:embed="rId9"/>
          <a:stretch/>
        </p:blipFill>
        <p:spPr>
          <a:xfrm rot="16200000">
            <a:off x="-1024560" y="3328200"/>
            <a:ext cx="2905200" cy="36324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13" descr="400"/>
          <p:cNvPicPr/>
          <p:nvPr/>
        </p:nvPicPr>
        <p:blipFill>
          <a:blip r:embed="rId10"/>
          <a:stretch/>
        </p:blipFill>
        <p:spPr>
          <a:xfrm flipH="1" rot="5400000">
            <a:off x="7242480" y="3348720"/>
            <a:ext cx="2905200" cy="3222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fill="hold">
                      <p:stCondLst>
                        <p:cond delay="0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0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1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2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4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65" dur="1000" autoRev="1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366" dur="1000" autoRev="1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367" dur="1000" autoRev="1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560" y="685800"/>
            <a:ext cx="8458200" cy="25272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b6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2122a"/>
                </a:solidFill>
                <a:latin typeface="Baskerville Old Face"/>
              </a:rPr>
              <a:t>2.</a:t>
            </a:r>
            <a:r>
              <a:rPr b="0" lang="ru-RU" sz="4400" spc="-1" strike="noStrike">
                <a:solidFill>
                  <a:srgbClr val="cebd4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Какими словами бранила старуха своего старика в “Сказке о рыбаке и рыбке”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87" name="AutoShape 19"/>
          <p:cNvSpPr/>
          <p:nvPr/>
        </p:nvSpPr>
        <p:spPr>
          <a:xfrm>
            <a:off x="228600" y="3809880"/>
            <a:ext cx="4267080" cy="125100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Горюшко ты моё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17"/>
          <p:cNvSpPr/>
          <p:nvPr/>
        </p:nvSpPr>
        <p:spPr>
          <a:xfrm>
            <a:off x="228600" y="5257800"/>
            <a:ext cx="4267080" cy="12193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Пустая твоя голова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16"/>
          <p:cNvSpPr/>
          <p:nvPr/>
        </p:nvSpPr>
        <p:spPr>
          <a:xfrm>
            <a:off x="4648320" y="5257800"/>
            <a:ext cx="4190760" cy="12193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 Ах ты, мерзкий старик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18"/>
          <p:cNvSpPr/>
          <p:nvPr/>
        </p:nvSpPr>
        <p:spPr>
          <a:xfrm>
            <a:off x="4648320" y="3809880"/>
            <a:ext cx="4267080" cy="12193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 Дурачина ты, простофиля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20"/>
          <p:cNvSpPr/>
          <p:nvPr/>
        </p:nvSpPr>
        <p:spPr>
          <a:xfrm>
            <a:off x="-223920" y="293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26"/>
          <p:cNvSpPr/>
          <p:nvPr/>
        </p:nvSpPr>
        <p:spPr>
          <a:xfrm>
            <a:off x="304920" y="4618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3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40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44">
            <a:hlinkClick r:id="rId1"/>
          </p:cNvPr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9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3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3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4" dur="1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45" dur="1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46" dur="1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6" dur="1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57" dur="1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58" dur="1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68" dur="1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69" dur="1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70" dur="1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250" autoRev="1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82" dur="250" autoRev="1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83" dur="250" autoRev="1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8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9940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a4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122a"/>
                </a:solidFill>
                <a:latin typeface="Times New Roman"/>
              </a:rPr>
              <a:t>3. 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Сколько лет Пушкин провёл в Царскосельском лицее?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12" name="AutoShape 17"/>
          <p:cNvSpPr/>
          <p:nvPr/>
        </p:nvSpPr>
        <p:spPr>
          <a:xfrm>
            <a:off x="228600" y="525780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5 лет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AutoShape 16"/>
          <p:cNvSpPr/>
          <p:nvPr/>
        </p:nvSpPr>
        <p:spPr>
          <a:xfrm>
            <a:off x="4572000" y="525780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9 месяцев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20"/>
          <p:cNvSpPr/>
          <p:nvPr/>
        </p:nvSpPr>
        <p:spPr>
          <a:xfrm>
            <a:off x="-223920" y="293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27"/>
          <p:cNvSpPr/>
          <p:nvPr/>
        </p:nvSpPr>
        <p:spPr>
          <a:xfrm>
            <a:off x="228600" y="4267080"/>
            <a:ext cx="40384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6 лет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28"/>
          <p:cNvSpPr/>
          <p:nvPr/>
        </p:nvSpPr>
        <p:spPr>
          <a:xfrm>
            <a:off x="4495680" y="4267080"/>
            <a:ext cx="403884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50d1e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3 года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3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3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43">
            <a:hlinkClick r:id="rId1"/>
          </p:cNvPr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9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22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29" dur="1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230" dur="1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231" dur="1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238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41" dur="1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242" dur="1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243" dur="1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53" dur="1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254" dur="1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255" dur="1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cc66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6" dur="250" autoRev="1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267" dur="250" autoRev="1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268" dur="250" autoRev="1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1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2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3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74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305920" cy="21463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bc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122a"/>
                </a:solidFill>
                <a:latin typeface="Times New Roman"/>
              </a:rPr>
              <a:t>4.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оэт, подаривший Пушкину свой портрет с надписью “Победителю – ученику от побежденного учителя”</a:t>
            </a:r>
            <a:br>
              <a:rPr sz="4000"/>
            </a:br>
            <a:endParaRPr b="0" lang="en-US" sz="32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1600200" y="3657600"/>
            <a:ext cx="5410080" cy="7621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9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Фонвиз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1752480" y="5486400"/>
            <a:ext cx="5181840" cy="7621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9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 Жуковск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7"/>
          <p:cNvSpPr/>
          <p:nvPr/>
        </p:nvSpPr>
        <p:spPr>
          <a:xfrm>
            <a:off x="1600200" y="2819520"/>
            <a:ext cx="5257800" cy="76176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9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Державин  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1676520" y="4572000"/>
            <a:ext cx="5257800" cy="7621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9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Радищев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11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18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24">
            <a:hlinkClick r:id="rId1"/>
          </p:cNvPr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9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1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316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19" dur="1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320" dur="1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321" dur="1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328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31" dur="1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332" dur="1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333" dur="1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9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340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43" dur="1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344" dur="1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345" dur="1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6" dur="250" autoRev="1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357" dur="250" autoRev="1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358" dur="250" autoRev="1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6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6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ver</cp:lastModifiedBy>
  <dcterms:modified xsi:type="dcterms:W3CDTF">2010-10-14T09:08:47Z</dcterms:modified>
  <cp:revision>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